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98100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06520" y="1143000"/>
            <a:ext cx="8637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71720" y="2286000"/>
          <a:ext cx="7072200" cy="3095640"/>
        </p:xfrm>
        <a:graphic>
          <a:graphicData uri="http://schemas.openxmlformats.org/drawingml/2006/table">
            <a:tbl>
              <a:tblPr/>
              <a:tblGrid>
                <a:gridCol w="785520"/>
                <a:gridCol w="785880"/>
                <a:gridCol w="785880"/>
                <a:gridCol w="785880"/>
                <a:gridCol w="785880"/>
                <a:gridCol w="785520"/>
                <a:gridCol w="785880"/>
                <a:gridCol w="785880"/>
                <a:gridCol w="78588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атоми који у облику позитивних јона имају електронску конфигурацију племенитих гасов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у конфигурацију имају јони алкалних и земноалкалних метала као и јони прелазних метала првих шест група d-елеме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мплекса јона s-елемената преовлађује јонска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мплекса d-метала мешовито јонско-ковалентана или чисто ковалентна в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ноставним монодентатним и бидентатним лигандима јони s-елемената (алкални и земноалакални метали) граде мало комплексних једињ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лидентатним лигандима број комплекса је знатно већи, посебно са лигандима који садрже тврде донорске атоме, као што су кисеоник и аз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наведених група d-елемената граде велики број разноврсних комплекса што је карактеристично и за јоне осталих група прелазних ме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2286000"/>
          <a:ext cx="8572680" cy="2211480"/>
        </p:xfrm>
        <a:graphic>
          <a:graphicData uri="http://schemas.openxmlformats.org/drawingml/2006/table">
            <a:tbl>
              <a:tblPr/>
              <a:tblGrid>
                <a:gridCol w="658800"/>
                <a:gridCol w="660600"/>
                <a:gridCol w="658800"/>
                <a:gridCol w="593640"/>
                <a:gridCol w="725400"/>
                <a:gridCol w="658800"/>
                <a:gridCol w="660600"/>
                <a:gridCol w="658800"/>
                <a:gridCol w="658800"/>
                <a:gridCol w="660240"/>
                <a:gridCol w="658800"/>
                <a:gridCol w="660600"/>
                <a:gridCol w="658800"/>
              </a:tblGrid>
              <a:tr h="442800"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-1)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-1)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угу групу спадају централни атоми који у облику позитивних јона имају електронску конфигурацију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у групу спадају јони метала прве четири групе р-елемената различитог оксидационог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ећу групу спадају централни атоми који у облику неутралних атома, позитивних или негативних јона (оксидационог стања) имају електронску конфигурацију псеудо-племенитих гасова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-1)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група метала је најразноврснија по оксидационим стањ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и метала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ју електронску конфигурацију која одговара негативним оксидационим стањима (Co(-1), Fe(-2), Mn(-3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групе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граде комплексе и као неутрални атоми у нултом оксидационом стању (Ni(0), Pd(0), Pt(0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групе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мената могу да граде комплексе и као атоми са позитивним оксидационим бројем: Cu(I), Zn(II), Ti(II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комплекса метала код којих централни атом има нулто и негативно оксидационо стање знатно је мањи од броја комплекса код којих централни атом има позитивно оксидационо ст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плексима [Ni(C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и [Fe(C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никал и гвожђе су у нултом оксидационом ста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плексима H[Co(C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n(CO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централни метални јони се јављају у негативним оксидационим стањима (кобалт(-1), гвожђе(-2), манган(-3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495800" y="1857240"/>
            <a:ext cx="61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нутрашња</a:t>
            </a:r>
            <a:r>
              <a:rPr b="0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ординацион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фер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5712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L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8000" spc="-1" strike="noStrike" baseline="30000">
                <a:solidFill>
                  <a:srgbClr val="000000"/>
                </a:solidFill>
                <a:latin typeface="Arial"/>
              </a:rPr>
              <a:t>z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43920" y="42861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291560" y="44290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442480" y="40006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425280" y="27147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0"/>
          <p:cNvCxnSpPr/>
          <p:nvPr/>
        </p:nvCxnSpPr>
        <p:spPr>
          <a:xfrm flipH="1">
            <a:off x="2928240" y="3499200"/>
            <a:ext cx="786600" cy="715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0" name="Straight Arrow Connector 12"/>
          <p:cNvCxnSpPr/>
          <p:nvPr/>
        </p:nvCxnSpPr>
        <p:spPr>
          <a:xfrm flipH="1">
            <a:off x="4498200" y="3573000"/>
            <a:ext cx="252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Straight Arrow Connector 14"/>
          <p:cNvCxnSpPr/>
          <p:nvPr/>
        </p:nvCxnSpPr>
        <p:spPr>
          <a:xfrm>
            <a:off x="5286240" y="3642840"/>
            <a:ext cx="286560" cy="358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2" name="Straight Arrow Connector 16"/>
          <p:cNvCxnSpPr/>
          <p:nvPr/>
        </p:nvCxnSpPr>
        <p:spPr>
          <a:xfrm>
            <a:off x="6000480" y="2999880"/>
            <a:ext cx="50076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3" name="Rectangle 17"/>
          <p:cNvSpPr/>
          <p:nvPr/>
        </p:nvSpPr>
        <p:spPr>
          <a:xfrm>
            <a:off x="3052080" y="5357880"/>
            <a:ext cx="342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[Fe(CN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[Cu(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плексна једињења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јон метала и лиган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Pt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15680" y="278604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362480" y="26370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361040" y="2286000"/>
            <a:ext cx="127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V="1">
            <a:off x="3429000" y="2357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18400" y="4229280"/>
            <a:ext cx="24663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354480" y="47242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5434200" y="4572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2"/>
          <p:cNvCxnSpPr/>
          <p:nvPr/>
        </p:nvCxnSpPr>
        <p:spPr>
          <a:xfrm>
            <a:off x="5713920" y="4142880"/>
            <a:ext cx="4294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једињења могу постојати као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 кат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 ан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, јон или неутралан молекул који се налази у координационој сфери комплекса везан за централни метални јон називамо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су атоми или атомске групе које поседују најмање један слободан електронски п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се могу поделити пр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броју донорских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 донорских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иганада према наелектриса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120" y="135684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 лиган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халогених елеменат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лни јон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идни јон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оксо киселин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карбоксилних киселина (ацетатни, оксалатни, тартаратни ј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иганада према наелектрис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лиган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амонијак, метил-амин, угљенмоноксид, етилендиамин, арсини, фосфини, молекулски азот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илију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зинију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0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метиламонијум јо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иганада према броју донорских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 атом је онај атом који садржи слободан електронски пар преко кога се остварује координативно-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валентна веза са централним металним ј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ентат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ента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дента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дента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дента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дентат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 лига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поседују само један донорски атом називају се монодентатни лиган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и лиганди могу заузети само једно координационо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N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0" lang="sr-Latn-CS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онодентатне лиганде убрајају 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поседују само један слободан електронски пар који се налази у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 (H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утрални алифатични амини). Такви лиганди граде само једну везу са металним јоном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поседују два електронска пара (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. Један електронски пар се налази у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 која је на вишем нивоу и учествује у стварању само једне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поседују три слободна електронска пара (F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</a:t>
            </a:r>
            <a:r>
              <a:rPr b="0" lang="en-US" sz="2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Један електронски пар се налази у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, а друга два у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им орбиталамa које су на енергетски вишем нивоу од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. Такви лиганди стварају двоструку везу са централним атомом: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са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ром и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са једним од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поседују слободан електронски пар у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орбитали и једну или више празних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их орбитала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, py, bipy, phen). Такви лиганди с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ром стварај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, а са празним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ма процесом повратне донациј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поседују два слободна електронска пара (CO, CN</a:t>
            </a:r>
            <a:r>
              <a:rPr b="0" lang="en-US" sz="24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д којих је један 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(енергетски нижој) а други 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ј (енергетски знатно вишој) орбитали. Такви лиганди стварају двоструку везу: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ром стварај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, 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у не стварају са 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екулском орбиталом већ са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тиввезивном (антивезивном) орбиталом процесом повратне дон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2666880" cy="3772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005360" y="1928880"/>
            <a:ext cx="50572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ред Вернер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erd Wer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. године установио теорију о д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валенци (две координационе сфе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. године добио је Нобелову награду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 развоју координационе хем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који често играју улогу мостних лиганада (O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F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кође спадају у монодентатне лиган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 лиганди имају два донорска атома и могу заузети  два коодинациона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кве лиганде спадају: карбонатни јон, оксалатни јон, глицинатни јон, молекул етилендиамина, пропилендиамин и бипири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о              оксалат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x)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а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1214280" y="4357800"/>
          <a:ext cx="665820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4357800"/>
                    <a:ext cx="665820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диамин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n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2,2ʹ-бипирид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ip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1285920" y="2500200"/>
          <a:ext cx="722160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500200"/>
                    <a:ext cx="72216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ентатни лиган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ентатни лиганди имају три донорска атома и заузимају три координациона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ентриамин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одиацетато                              тер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en)                                   (idac)                                                (terp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571680" y="2928960"/>
          <a:ext cx="772632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928960"/>
                    <a:ext cx="772632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ентатн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четири донорск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илотриацетат     триетилентетрамин                    етилен-диамин-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цета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tac)                                 (trien)                                               (ed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395280" y="2852640"/>
          <a:ext cx="78692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852640"/>
                    <a:ext cx="7869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ножни и ланчани тетрадентатн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аминоетил)амин           </a:t>
            </a:r>
            <a:r>
              <a:rPr b="0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дифенилфосфиноетил)амин          </a:t>
            </a:r>
            <a:r>
              <a:rPr b="0" i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диметиламиноетил)амин            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en)                                                 (tpn)                                                               (Me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r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571680" y="2357280"/>
          <a:ext cx="7762680" cy="13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357280"/>
                    <a:ext cx="77626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дентатн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пет донорск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триацетато јон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2411280" y="2924280"/>
          <a:ext cx="483552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24280"/>
                    <a:ext cx="48355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дентатн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714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шест донорск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 етилендиаминтетрасирћетне киселин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d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755640" y="2349360"/>
          <a:ext cx="567864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567864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,Nʹ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цетато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ʹ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ноато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3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ато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,Nʹ,Nʹ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-3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ноато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a3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1835280" y="1413000"/>
          <a:ext cx="5643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643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1763640" y="3645000"/>
          <a:ext cx="5886360" cy="11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645000"/>
                    <a:ext cx="588636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989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централног металног јона са полидентатним лигандима подсећају на клешта морског 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акве везе лиганде називам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лиганд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стале комплекс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лиган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 једињења метала са неорганским или органским лиганд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из два 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у угластој загради називамо унутрашња сфера или координациона 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ван угласте заграде спољашња 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лиган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приликом врло често настају хелатни прстен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кве лиганде спада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диа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нин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е хелатних прстенова доприноси веома много стабилности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е стабилности хелатних комплекса су знатно више од константи стабилности не хелатних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стабилност проузрокована је порастом ентропијског доприноса слободној енергији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стајању хелатних комплекса један хелатни лиганд може истиснути из координационе сфере већи број монодентатних лиганада што доприноси порасту броја слободних честица тј. ентропије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о закључити следе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полидентатности расте допринос ентропијског члана који утиче на смањење слободне енергије што можемо запазити преко пораста вредности константи стабилности комплекса ! !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дентатни лига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са два донорска атома који се због своје структуре не могу истовремено везати са оба атома за централни метални ј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иди     изоцијаниди    тиоцијанати     изотиоцијанати     цијанати        изоцијан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          изоцијано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цијанато     изотиоцијанато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ато        изоцијана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928800" y="3286080"/>
          <a:ext cx="7232400" cy="2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3286080"/>
                    <a:ext cx="723240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лиганада према врсти донорских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одонорни лиганди (жива, олово, калај, германију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нутрашњој (координационој) сфери се нал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атом (градитељ комплек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и (или атомске групе) који су везани за централни јо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л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у сферу још називамо и </a:t>
            </a:r>
            <a:r>
              <a:rPr b="0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лекс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лексна честица у ужем смисл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комплексног једињења или комплекса у облику два дела, које често одвајамо угластом заградом, може се илустровати једноставним огледом са аминским комплексима кобалт(III)-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воденим раствор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аминкобалт(III)-трихлорида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RS" sz="2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амминхлорoкобалт(III)-дихлорид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sr-Latn-RS" sz="2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амминдихлорокобалт(III)-хлорид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sr-Latn-RS" sz="2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минтрихлорокобалт(III)-комплек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sr-Latn-RS" sz="2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мо раствор сребро(I)-јона исталожиће се у облику слабо растворног сребро-хлорида различите количине хлоридног јона. Колико ће се наградити сребро-хлорида зависи од тога колико се хлоридног-јона налази у спољашњој сфери комплексног једињ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аложења хлорида који се налази у унутрашњем делу комплексног једињењ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долази тек после загревања раствора које проузрокује разлагање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га можемо закључити да је хемијска веза између хлоридног јона и кобалт(III)-јона у координационој сфери знатно јача од хемијске везе кобалт(III)-јона са хлординим јоном који се налази у спољашњој сфери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два дела комплекса можемо установити и на други нач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м проводљивости раствора комплексног једиње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мањем инфрацрвених спекта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 атом или јон било ког е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то јони прелазних метала, лантанидних и актинидних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ни и земноалкални метали граде релативно мало комплексних једињења јер постижу лако стабилну електронску конфигурацију отпуштањем једног или два елект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конфигурације централне атоме можемо поделити у три гру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они алкалних и земноалкалних метала, као  и прелазни метали првих шест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ме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они прве четири груп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ме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8-07-24T10:07:55Z</dcterms:modified>
  <cp:revision>90</cp:revision>
  <dc:subject/>
  <dc:title>Slide 1</dc:title>
</cp:coreProperties>
</file>